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168-9967-48A9-9C45-199FDD4B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F9B-E2B1-44D4-A71D-C16F2E83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396-B6C0-4647-AF20-DEF45715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54B-7670-49B7-BE94-314FA89E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24C-EDC9-4745-95DE-0088A5C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03B-F21F-4026-AECE-CD6EF3D5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68C-E9E2-4CF3-9B7B-72C22081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F09-2433-4420-8F38-0593E532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136-D372-4EA0-939C-54BD4CCC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312-5427-4E55-B308-4E8A62ED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E5E-B7C6-4628-9E83-D8393623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C2C-AF0D-4B63-84A9-3C8C4E54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3617-23C8-4C23-A46B-8D70BFECE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aphics metho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s, raised rectangles, rectangles with rounded corners,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cy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G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G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.setColor (Color.re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 new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e on action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’s drawL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and pass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uter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area and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Shapes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30 code and outpu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code omit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686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actionPerformed (actionEvent event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commen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ve or at end of the same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draw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.drawLine(… ); // right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ted to still images for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s allow user interaction (GUI interf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(change – 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se clicks (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resses (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llbar moves (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lling though a page (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program must ensure events are detected – it “listens” for various types of events – when any are detected it “handels” the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3-24 Output and text of Draw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s with but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acts by clicking on a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Me” fo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agonal line is dra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aphics coordina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209680"/>
            <a:ext cx="59436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05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x, mi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x and ma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56386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x and ma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905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743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void actionPerformed (actionEvent even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s paper = panel.getGraphic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.drawLine(0,0,100,10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4343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10863000">
            <a:off x="3198240" y="509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441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438280" y="373356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733920" y="3962520"/>
            <a:ext cx="5331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029200" y="38862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867280" y="38862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for dra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s (circles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Line (100,200,250,20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Rect(200,100,150,30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Oval(x,y,width,heigh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2514600"/>
            <a:ext cx="27432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438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2590920"/>
            <a:ext cx="2666880" cy="2666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8862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76720" y="26665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3124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6:35:52Z</dcterms:created>
  <dc:creator>ITS</dc:creator>
  <dc:description/>
  <dc:language>en-US</dc:language>
  <cp:lastModifiedBy>ITS</cp:lastModifiedBy>
  <dcterms:modified xsi:type="dcterms:W3CDTF">2005-04-26T17:00:58Z</dcterms:modified>
  <cp:revision>2</cp:revision>
  <dc:subject/>
  <dc:title>Using Graphics methods Chapter 3</dc:title>
</cp:coreProperties>
</file>